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531-4D8B-4C83-A1EC-F563013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752-8BAE-4054-A6E2-6324002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081-62FC-4B92-AF85-12BB50FA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D3F-9527-4B8B-BB32-9E4400AE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B60-4A50-4A3D-8341-F93FA63D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C63-0C18-407F-82A1-761D8EAE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82C-F5F2-4109-816B-6D04839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94D-9866-4E4C-ABA4-BA83182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937-0E01-4E90-B54C-AB86BFDA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33F-9C11-47DE-A94B-814F51D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40F-1B79-4C64-AF35-92481B6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20F-5D4F-4AD5-98AF-88213F8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4E01-D9F0-4391-A463-5CA9510F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1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895480" y="1828800"/>
                <a:ext cx="692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2666880" y="4267080"/>
                <a:ext cx="190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·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743200" y="3124080"/>
                <a:ext cx="1211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743200" y="2133720"/>
                <a:ext cx="38098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01b/c: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Prep Goal 1.01b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2635200"/>
                <a:ext cx="6477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392120" y="4495680"/>
                <a:ext cx="65898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143000" y="2057400"/>
          <a:ext cx="32767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276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011240" y="2876400"/>
                <a:ext cx="4759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1600200" y="5334120"/>
                <a:ext cx="335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1716120" y="4402080"/>
                <a:ext cx="304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942160" y="4686480"/>
                <a:ext cx="18334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by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4)(2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ˆ-6x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(x</a:t>
            </a:r>
            <a:r>
              <a:rPr b="0" lang="en-US" sz="2800" spc="-1" strike="noStrike">
                <a:solidFill>
                  <a:srgbClr val="000000"/>
                </a:solidFill>
                <a:latin typeface="AEC Calculus"/>
              </a:rPr>
              <a:t>ˆ+2x-5)+6xˆ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4521240" y="3371760"/>
          <a:ext cx="101520" cy="1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3371760"/>
                    <a:ext cx="1015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˜+21xˆ-35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24xœ- 42x—+18x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7x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6x–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EC Calculu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"/>
          <p:cNvSpPr/>
          <p:nvPr/>
        </p:nvSpPr>
        <p:spPr>
          <a:xfrm>
            <a:off x="1143000" y="2514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6"/>
          <p:cNvSpPr/>
          <p:nvPr/>
        </p:nvSpPr>
        <p:spPr>
          <a:xfrm>
            <a:off x="5334120" y="2514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EC Calculus"/>
              </a:rPr>
              <a:t>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057400" y="2895480"/>
            <a:ext cx="3886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90920" y="4343400"/>
            <a:ext cx="198108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out the G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look for the GREATEST numb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/or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goes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52440" y="3809880"/>
                <a:ext cx="3745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1292400" y="4876920"/>
                <a:ext cx="3665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pay attention to the s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and width of a rectangle with an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514600" y="2666880"/>
                <a:ext cx="23623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4114800" y="4876920"/>
                <a:ext cx="232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18:33Z</dcterms:created>
  <dc:creator>Sharon Fieldman</dc:creator>
  <dc:description/>
  <dc:language>en-US</dc:language>
  <cp:lastModifiedBy>njamison</cp:lastModifiedBy>
  <dcterms:modified xsi:type="dcterms:W3CDTF">2011-04-29T13:35:46Z</dcterms:modified>
  <cp:revision>11</cp:revision>
  <dc:subject/>
  <dc:title>Goal 1.01a Review</dc:title>
</cp:coreProperties>
</file>